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2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ct" ContentType="image/x-pict"/>
  <Override PartName="/ppt/media/image27.pct" ContentType="image/x-pict"/>
  <Override PartName="/ppt/media/image26.pct" ContentType="image/x-pict"/>
  <Override PartName="/ppt/media/image21.jpeg" ContentType="image/jpeg"/>
  <Override PartName="/ppt/media/image25.pct" ContentType="image/x-pict"/>
  <Override PartName="/ppt/media/image28.pct" ContentType="image/x-pict"/>
  <Override PartName="/ppt/media/image23.jpeg" ContentType="image/jpeg"/>
  <Override PartName="/ppt/media/image12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3.png" ContentType="image/png"/>
  <Override PartName="/ppt/media/image22.pct" ContentType="image/x-pict"/>
  <Override PartName="/ppt/media/image9.png" ContentType="image/png"/>
  <Override PartName="/ppt/media/image39.png" ContentType="image/png"/>
  <Override PartName="/ppt/media/image31.jpeg" ContentType="image/jpeg"/>
  <Override PartName="/ppt/media/image2.png" ContentType="image/png"/>
  <Override PartName="/ppt/media/image8.png" ContentType="image/png"/>
  <Override PartName="/ppt/media/image38.png" ContentType="image/png"/>
  <Override PartName="/ppt/media/image33.jpeg" ContentType="image/jpeg"/>
  <Override PartName="/ppt/media/image10.png" ContentType="image/png"/>
  <Override PartName="/ppt/media/image30.jpeg" ContentType="image/jpeg"/>
  <Override PartName="/ppt/media/image40.pct" ContentType="image/x-pict"/>
  <Override PartName="/ppt/media/image15.png" ContentType="image/png"/>
  <Override PartName="/ppt/media/image24.jpeg" ContentType="image/jpeg"/>
  <Override PartName="/ppt/media/image41.pct" ContentType="image/x-pict"/>
  <Override PartName="/ppt/media/image16.png" ContentType="image/png"/>
  <Override PartName="/ppt/media/image42.pct" ContentType="image/x-pict"/>
  <Override PartName="/ppt/media/image37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3.png" ContentType="image/png"/>
  <Override PartName="/ppt/media/image1.pct" ContentType="image/x-pict"/>
  <Override PartName="/ppt/media/image4.png" ContentType="image/png"/>
  <Override PartName="/ppt/media/image1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B61D-E270-4786-9294-3EDD46742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D534-7906-4010-B0EB-66A9A7CD6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 between ontology an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 #4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 #3 Work begins January 1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An ontology toolkit to build applications to rapidly capture and rigorously describe experimental data using ont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Technology to store, view, and compare annotations of biomedical research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#3 Access to data annotations linking human diseases with genetic marker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begins January 1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#4 Reconciliation of annotations as source ontologies chang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8356-61D0-4903-B860-77E587B70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/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ware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from MODs and other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tation vers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ener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at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ata typed by OBO classes can be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notation data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trial data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otype data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do-compli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y-attribut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6A35-A081-44A2-8569-93121FFA8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2925-E340-4237-A8AB-44478A977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0314-ACE6-46E9-8D1B-36486A10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0E0-A8D7-41D4-8945-777B1914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DD62-7523-4497-9DDD-BB1F0BD3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62CD-C2D1-48AC-BE73-261D5A20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ECBA-9B1A-4549-8DAF-4F44993F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334-7417-40FD-AEE3-5BDA41A0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C0C4-850D-42F0-AC2A-7CE8A6C5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8B2-14FD-42F2-A107-7F928F03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19C0-40BB-444A-B237-F83DEEC9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9A5-E413-4D75-BDB4-93118B4E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6E1-886C-4B7A-A4EF-3D957715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458-486C-48A6-9434-8C31B67D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1700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2416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3096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4156-1517-4FF8-84B1-E44BF11E5E3D}" type="slidenum">
              <a:rPr b="0" lang="en-US" sz="14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pct"/><Relationship Id="rId22" Type="http://schemas.openxmlformats.org/officeDocument/2006/relationships/slideLayout" Target="../slideLayouts/slideLayout5.xml"/><Relationship Id="rId2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package" Target="../embeddings/oleObject1.docx"/><Relationship Id="rId3" Type="http://schemas.openxmlformats.org/officeDocument/2006/relationships/image" Target="../media/image41.pct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image" Target="../media/image42.pct"/><Relationship Id="rId21" Type="http://schemas.openxmlformats.org/officeDocument/2006/relationships/slideLayout" Target="../slideLayouts/slideLayout5.xml"/><Relationship Id="rId22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e National Center for Biomedical Ontolog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tanford – Berkele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yo – Victoria – Buffal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CSF – Oregon – Cambridg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"/>
          <p:cNvSpPr/>
          <p:nvPr/>
        </p:nvSpPr>
        <p:spPr>
          <a:xfrm>
            <a:off x="96696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e National Center for Biomedical Ontolog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re 3: Driving Biological Proj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nte Westerfiel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102280" y="533520"/>
            <a:ext cx="2060640" cy="2666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76520" y="533520"/>
            <a:ext cx="2819160" cy="2671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828800" y="387828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5105520" y="3890880"/>
            <a:ext cx="2209680" cy="2167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7212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9656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6110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61102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280" y="48564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52280" y="485640"/>
            <a:ext cx="76201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2280" y="485640"/>
            <a:ext cx="762012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52280" y="485640"/>
            <a:ext cx="784872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flipV="1">
            <a:off x="5105520" y="1676160"/>
            <a:ext cx="152388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952880" y="2514600"/>
            <a:ext cx="53352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809880" y="1371240"/>
            <a:ext cx="60984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428640" y="2209320"/>
            <a:ext cx="685800" cy="8384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133720" y="685440"/>
            <a:ext cx="1828800" cy="25146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057400" y="1752120"/>
            <a:ext cx="1905120" cy="1676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3733920"/>
            <a:ext cx="3808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981080" y="2819520"/>
            <a:ext cx="190512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981080" y="3733920"/>
            <a:ext cx="1905120" cy="3045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48120" y="4191120"/>
            <a:ext cx="914400" cy="4572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066680" y="4952880"/>
            <a:ext cx="609840" cy="3812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438280" y="5334120"/>
            <a:ext cx="76320" cy="5331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4267080"/>
            <a:ext cx="7596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4267080"/>
            <a:ext cx="838080" cy="10670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4191120"/>
            <a:ext cx="2286000" cy="6858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3809880"/>
            <a:ext cx="914400" cy="1526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105520" y="3200040"/>
            <a:ext cx="1828800" cy="1522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181480" y="2437920"/>
            <a:ext cx="2210040" cy="8384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29000" y="5410080"/>
            <a:ext cx="1300320" cy="1201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1235160" cy="61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162920" y="3809880"/>
            <a:ext cx="1981080" cy="1155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743200" y="868320"/>
            <a:ext cx="1943280" cy="50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752480" y="4495680"/>
            <a:ext cx="1292400" cy="857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6858000" y="2941560"/>
            <a:ext cx="1646280" cy="639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5181480" y="6172200"/>
            <a:ext cx="1714680" cy="422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533520" y="2057400"/>
            <a:ext cx="1382760" cy="800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5867280" y="1219320"/>
            <a:ext cx="1782720" cy="422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457200" y="327672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5410080" y="5410080"/>
            <a:ext cx="3429000" cy="503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2514600" y="1639800"/>
            <a:ext cx="1143000" cy="722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3581280" y="4800600"/>
            <a:ext cx="1447920" cy="603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4"/>
          <a:stretch/>
        </p:blipFill>
        <p:spPr>
          <a:xfrm>
            <a:off x="7086600" y="1676520"/>
            <a:ext cx="1771560" cy="993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5"/>
          <a:stretch/>
        </p:blipFill>
        <p:spPr>
          <a:xfrm>
            <a:off x="5867280" y="3581280"/>
            <a:ext cx="879480" cy="1028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6"/>
          <a:stretch/>
        </p:blipFill>
        <p:spPr>
          <a:xfrm>
            <a:off x="4495680" y="1828800"/>
            <a:ext cx="2286000" cy="663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7"/>
          <a:stretch/>
        </p:blipFill>
        <p:spPr>
          <a:xfrm>
            <a:off x="152280" y="133200"/>
            <a:ext cx="3051360" cy="628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8"/>
          <a:stretch/>
        </p:blipFill>
        <p:spPr>
          <a:xfrm>
            <a:off x="2514600" y="28195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9"/>
          <a:stretch/>
        </p:blipFill>
        <p:spPr>
          <a:xfrm>
            <a:off x="76320" y="5370480"/>
            <a:ext cx="1981080" cy="496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0"/>
          <a:stretch/>
        </p:blipFill>
        <p:spPr>
          <a:xfrm>
            <a:off x="1447920" y="5892840"/>
            <a:ext cx="1218960" cy="812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7440" y="-49320"/>
            <a:ext cx="551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tologies are essential to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make sense of biomed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1"/>
          <a:stretch/>
        </p:blipFill>
        <p:spPr>
          <a:xfrm>
            <a:off x="3505320" y="3048120"/>
            <a:ext cx="2361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2280" y="485640"/>
            <a:ext cx="7748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219480"/>
            <a:ext cx="3436920" cy="2790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Gill Sans"/>
              </a:rPr>
              <a:t>P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otelo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opl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ertroph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3225960"/>
            <a:ext cx="2183040" cy="274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Gill Sans"/>
              </a:rPr>
              <a:t>ZF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mid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3440" y="4154400"/>
            <a:ext cx="5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0880" y="485640"/>
            <a:ext cx="6783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" y="2100240"/>
            <a:ext cx="438696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atomy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ell &amp; tissue ont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velopmenta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61200" y="316872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+     P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(phenotype and trait ontolo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0880" y="515880"/>
            <a:ext cx="785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3379680"/>
            <a:ext cx="60022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Syndrome =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+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+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(dise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holoprosenceph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1240" y="1555920"/>
            <a:ext cx="8916840" cy="5008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34720" y="60948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Human hol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senceph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5796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shh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2192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oep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380880"/>
            <a:ext cx="29718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1240" y="1555920"/>
            <a:ext cx="8916840" cy="50083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34720" y="60948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Human hol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senceph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5796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shh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2192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oep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47000" y="373212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47000" y="373212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38560" y="167652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19720" y="259092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8560" y="167652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47000" y="373212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62280" y="373212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ly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52280" y="1066680"/>
            <a:ext cx="883944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28600" y="1143000"/>
          <a:ext cx="8686800" cy="5343480"/>
        </p:xfrm>
        <a:graphic>
          <a:graphicData uri="http://schemas.openxmlformats.org/drawingml/2006/table">
            <a:tbl>
              <a:tblPr/>
              <a:tblGrid>
                <a:gridCol w="914400"/>
                <a:gridCol w="762120"/>
                <a:gridCol w="914400"/>
                <a:gridCol w="934920"/>
                <a:gridCol w="893880"/>
                <a:gridCol w="761760"/>
                <a:gridCol w="457200"/>
                <a:gridCol w="609840"/>
                <a:gridCol w="2438280"/>
              </a:tblGrid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disea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ro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at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porphyria, Erythropoie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8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 Tubular Acidosis, RTA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fness; DFNB2; DFNA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, Sideroblastic, X-Link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myopathy, Familial Hypertrophic; CM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st Can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-P6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dy Myopath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ootorenal Dyspla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0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denburg-Shah Syndr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74880" y="10126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99520" y="0"/>
            <a:ext cx="969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31" idx="4"/>
            <a:endCxn id="232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8" name=""/>
          <p:cNvCxnSpPr>
            <a:stCxn id="231" idx="1"/>
            <a:endCxn id="230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9" name=""/>
          <p:cNvCxnSpPr>
            <a:stCxn id="230" idx="4"/>
            <a:endCxn id="232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 biological ontology is: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machine interpretable representation of some aspect of biological real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4648320"/>
            <a:ext cx="1371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200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things exi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441972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elationship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between these th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6095880"/>
            <a:ext cx="2286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mmati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31488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nse 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331488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ye di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93320" y="422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664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42200" y="413064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ve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2438280" cy="1949400"/>
          </a:xfrm>
          <a:prstGeom prst="rect">
            <a:avLst/>
          </a:prstGeom>
          <a:ln w="0">
            <a:noFill/>
          </a:ln>
        </p:spPr>
      </p:pic>
      <p:cxnSp>
        <p:nvCxnSpPr>
          <p:cNvPr id="104" name=""/>
          <p:cNvCxnSpPr>
            <a:stCxn id="97" idx="0"/>
            <a:endCxn id="94" idx="2"/>
          </p:cNvCxnSpPr>
          <p:nvPr/>
        </p:nvCxnSpPr>
        <p:spPr>
          <a:xfrm flipV="1">
            <a:off x="6248160" y="5181120"/>
            <a:ext cx="1080" cy="91512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3"/>
            <a:endCxn id="98" idx="2"/>
          </p:cNvCxnSpPr>
          <p:nvPr/>
        </p:nvCxnSpPr>
        <p:spPr>
          <a:xfrm flipV="1">
            <a:off x="6934320" y="3924000"/>
            <a:ext cx="496080" cy="991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1"/>
            <a:endCxn id="99" idx="2"/>
          </p:cNvCxnSpPr>
          <p:nvPr/>
        </p:nvCxnSpPr>
        <p:spPr>
          <a:xfrm flipH="1" flipV="1">
            <a:off x="5067000" y="3924000"/>
            <a:ext cx="496080" cy="991440"/>
          </a:xfrm>
          <a:prstGeom prst="straightConnector1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e National Center for Biomedical Ontolog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re 2: Bioinformatic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uzanna Lew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B</a:t>
            </a:r>
            <a:r>
              <a:rPr b="0" i="1" lang="en-US" sz="4400" spc="-1" strike="noStrike">
                <a:solidFill>
                  <a:srgbClr val="6599cd"/>
                </a:solidFill>
                <a:latin typeface="Gill Sans"/>
              </a:rPr>
              <a:t>i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 Bioinformatics Goal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y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ftware toolkit for annot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bases and interfaces to store and view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vestigate and compa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ing human diseases to genetic mode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B</a:t>
            </a:r>
            <a:r>
              <a:rPr b="0" i="1" lang="en-US" sz="4400" spc="-1" strike="noStrike">
                <a:solidFill>
                  <a:srgbClr val="6599cd"/>
                </a:solidFill>
                <a:latin typeface="Gill Sans"/>
              </a:rPr>
              <a:t>i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 Bioinformatics Goal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y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ftware toolkit for annot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bases and interfaces to store and view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Gill Sans"/>
              </a:rPr>
              <a:t>Investigate and compa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"/>
              </a:rPr>
              <a:t>Linking human diseases to genetic mode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Elicitation of Requirements for Annotation Tools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ications pull from pioneer users in Core 3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F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ial Bank</a:t>
            </a:r>
            <a:r>
              <a:rPr b="0" lang="en-US" sz="2400" spc="-1" strike="noStrike">
                <a:solidFill>
                  <a:srgbClr val="80808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udy these groups currently annotat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termine how our Core 2 tools can integrate with existing data flows and datab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 the commonalities and differences among approach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Development of </a:t>
            </a:r>
            <a:br>
              <a:rPr sz="4400"/>
            </a:b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Data-Annotation Tool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 plug-in architectu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fault user interface for generic data-annotation task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stom-tailored interfaces for particular biomedical domai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able interoperability with existing ontology-management platfo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grate ontology-annotation tool with BioPort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ccess ontologies for data annotation from OB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tore data annotations in OB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henotype as an observ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53" name=""/>
          <p:cNvSpPr/>
          <p:nvPr/>
        </p:nvSpPr>
        <p:spPr>
          <a:xfrm>
            <a:off x="487440" y="2209680"/>
            <a:ext cx="2546280" cy="343404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3009960"/>
            <a:ext cx="2286000" cy="457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7640" y="4390920"/>
            <a:ext cx="2210040" cy="51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25760" y="2209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of thing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7120" y="2819520"/>
            <a:ext cx="1828800" cy="838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16720" y="32004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94600" y="2209680"/>
            <a:ext cx="2361960" cy="320040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91240" y="4191120"/>
            <a:ext cx="1676520" cy="914400"/>
          </a:xfrm>
          <a:prstGeom prst="rect">
            <a:avLst/>
          </a:prstGeom>
          <a:solidFill>
            <a:srgbClr val="e3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93040" y="4572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2576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62" idx="0"/>
            <a:endCxn id="256" idx="2"/>
          </p:cNvCxnSpPr>
          <p:nvPr/>
        </p:nvCxnSpPr>
        <p:spPr>
          <a:xfrm flipV="1">
            <a:off x="4568400" y="3031920"/>
            <a:ext cx="1080" cy="268344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64" name=""/>
          <p:cNvCxnSpPr>
            <a:stCxn id="262" idx="0"/>
            <a:endCxn id="254" idx="3"/>
          </p:cNvCxnSpPr>
          <p:nvPr/>
        </p:nvCxnSpPr>
        <p:spPr>
          <a:xfrm flipV="1" rot="16200000">
            <a:off x="2493360" y="3639240"/>
            <a:ext cx="2477160" cy="16740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65" name=""/>
          <p:cNvCxnSpPr>
            <a:stCxn id="262" idx="0"/>
            <a:endCxn id="255" idx="3"/>
          </p:cNvCxnSpPr>
          <p:nvPr/>
        </p:nvCxnSpPr>
        <p:spPr>
          <a:xfrm flipV="1" rot="16200000">
            <a:off x="3179160" y="4325400"/>
            <a:ext cx="1067400" cy="17118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66" name=""/>
          <p:cNvCxnSpPr>
            <a:stCxn id="262" idx="0"/>
            <a:endCxn id="257" idx="1"/>
          </p:cNvCxnSpPr>
          <p:nvPr/>
        </p:nvCxnSpPr>
        <p:spPr>
          <a:xfrm flipH="1" flipV="1" rot="5400000">
            <a:off x="4284360" y="3521880"/>
            <a:ext cx="2477160" cy="190908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67" name=""/>
          <p:cNvCxnSpPr>
            <a:stCxn id="262" idx="0"/>
            <a:endCxn id="260" idx="1"/>
          </p:cNvCxnSpPr>
          <p:nvPr/>
        </p:nvCxnSpPr>
        <p:spPr>
          <a:xfrm flipH="1" flipV="1" rot="5400000">
            <a:off x="5046480" y="4169880"/>
            <a:ext cx="1067400" cy="202284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henotype from published evidenc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8920" y="2333520"/>
            <a:ext cx="8958240" cy="219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ntologies enable users to describe assay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-84240" y="2171880"/>
            <a:ext cx="9306000" cy="377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henotype as an observ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73" name=""/>
          <p:cNvSpPr/>
          <p:nvPr/>
        </p:nvSpPr>
        <p:spPr>
          <a:xfrm>
            <a:off x="487440" y="2209680"/>
            <a:ext cx="2546280" cy="343404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3009960"/>
            <a:ext cx="2286000" cy="457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7640" y="4390920"/>
            <a:ext cx="2210040" cy="51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25760" y="2209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of thing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2819520"/>
            <a:ext cx="1828800" cy="838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516720" y="32004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94600" y="2209680"/>
            <a:ext cx="2361960" cy="320040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91240" y="4191120"/>
            <a:ext cx="1676520" cy="914400"/>
          </a:xfrm>
          <a:prstGeom prst="rect">
            <a:avLst/>
          </a:prstGeom>
          <a:solidFill>
            <a:srgbClr val="e3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93040" y="4572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2576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"/>
          <p:cNvCxnSpPr>
            <a:stCxn id="282" idx="0"/>
            <a:endCxn id="276" idx="2"/>
          </p:cNvCxnSpPr>
          <p:nvPr/>
        </p:nvCxnSpPr>
        <p:spPr>
          <a:xfrm flipV="1">
            <a:off x="4568400" y="3031920"/>
            <a:ext cx="1080" cy="268344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84" name=""/>
          <p:cNvCxnSpPr>
            <a:stCxn id="282" idx="0"/>
            <a:endCxn id="274" idx="3"/>
          </p:cNvCxnSpPr>
          <p:nvPr/>
        </p:nvCxnSpPr>
        <p:spPr>
          <a:xfrm flipV="1" rot="16200000">
            <a:off x="2493360" y="3639240"/>
            <a:ext cx="2477160" cy="16740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85" name=""/>
          <p:cNvCxnSpPr>
            <a:stCxn id="282" idx="0"/>
            <a:endCxn id="275" idx="3"/>
          </p:cNvCxnSpPr>
          <p:nvPr/>
        </p:nvCxnSpPr>
        <p:spPr>
          <a:xfrm flipV="1" rot="16200000">
            <a:off x="3179160" y="4325400"/>
            <a:ext cx="1067400" cy="17118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86" name=""/>
          <p:cNvCxnSpPr>
            <a:stCxn id="282" idx="0"/>
            <a:endCxn id="277" idx="1"/>
          </p:cNvCxnSpPr>
          <p:nvPr/>
        </p:nvCxnSpPr>
        <p:spPr>
          <a:xfrm flipH="1" flipV="1" rot="5400000">
            <a:off x="4284360" y="3521880"/>
            <a:ext cx="2477160" cy="190908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87" name=""/>
          <p:cNvCxnSpPr>
            <a:stCxn id="282" idx="0"/>
            <a:endCxn id="280" idx="1"/>
          </p:cNvCxnSpPr>
          <p:nvPr/>
        </p:nvCxnSpPr>
        <p:spPr>
          <a:xfrm flipH="1" flipV="1" rot="5400000">
            <a:off x="5046480" y="4169880"/>
            <a:ext cx="1067400" cy="202284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ntologies enable users to describe environment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88920" y="1978200"/>
            <a:ext cx="9315360" cy="290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e Foundational Model of Anat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304920" y="1095480"/>
            <a:ext cx="9753840" cy="57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henotype as an observ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91" name=""/>
          <p:cNvSpPr/>
          <p:nvPr/>
        </p:nvSpPr>
        <p:spPr>
          <a:xfrm>
            <a:off x="487440" y="2209680"/>
            <a:ext cx="2546280" cy="343404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3009960"/>
            <a:ext cx="2286000" cy="457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7640" y="4390920"/>
            <a:ext cx="2210040" cy="51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425760" y="2209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of thing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2819520"/>
            <a:ext cx="1828800" cy="838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516720" y="32004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294600" y="2209680"/>
            <a:ext cx="2361960" cy="320040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91240" y="4191120"/>
            <a:ext cx="1676520" cy="914400"/>
          </a:xfrm>
          <a:prstGeom prst="rect">
            <a:avLst/>
          </a:prstGeom>
          <a:solidFill>
            <a:srgbClr val="e3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93040" y="4572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2576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300" idx="0"/>
            <a:endCxn id="294" idx="2"/>
          </p:cNvCxnSpPr>
          <p:nvPr/>
        </p:nvCxnSpPr>
        <p:spPr>
          <a:xfrm flipV="1">
            <a:off x="4568400" y="3031920"/>
            <a:ext cx="1080" cy="268344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302" name=""/>
          <p:cNvCxnSpPr>
            <a:stCxn id="300" idx="0"/>
            <a:endCxn id="292" idx="3"/>
          </p:cNvCxnSpPr>
          <p:nvPr/>
        </p:nvCxnSpPr>
        <p:spPr>
          <a:xfrm flipV="1" rot="16200000">
            <a:off x="2493360" y="3639240"/>
            <a:ext cx="2477160" cy="16740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303" name=""/>
          <p:cNvCxnSpPr>
            <a:stCxn id="300" idx="0"/>
            <a:endCxn id="293" idx="3"/>
          </p:cNvCxnSpPr>
          <p:nvPr/>
        </p:nvCxnSpPr>
        <p:spPr>
          <a:xfrm flipV="1" rot="16200000">
            <a:off x="3179160" y="4325400"/>
            <a:ext cx="1067400" cy="17118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304" name=""/>
          <p:cNvCxnSpPr>
            <a:stCxn id="300" idx="0"/>
            <a:endCxn id="295" idx="1"/>
          </p:cNvCxnSpPr>
          <p:nvPr/>
        </p:nvCxnSpPr>
        <p:spPr>
          <a:xfrm flipH="1" flipV="1" rot="5400000">
            <a:off x="4284360" y="3521880"/>
            <a:ext cx="2477160" cy="190908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305" name=""/>
          <p:cNvCxnSpPr>
            <a:stCxn id="300" idx="0"/>
            <a:endCxn id="298" idx="1"/>
          </p:cNvCxnSpPr>
          <p:nvPr/>
        </p:nvCxnSpPr>
        <p:spPr>
          <a:xfrm flipH="1" flipV="1" rot="5400000">
            <a:off x="5046480" y="4169880"/>
            <a:ext cx="1067400" cy="202284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ntologies enable users to describe genotyp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-157320" y="1863720"/>
            <a:ext cx="9452160" cy="499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henotypes as collectio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inci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ame organism, same time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lativ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duced, enhanced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ame focus of observ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 left h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ffering levels of sca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lecular, cellular, organism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gnizable patter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t of observations that describe a dise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7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74880" y="10126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-299520" y="0"/>
            <a:ext cx="969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12" idx="4"/>
            <a:endCxn id="313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9" name=""/>
          <p:cNvCxnSpPr>
            <a:stCxn id="312" idx="1"/>
            <a:endCxn id="311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0" name=""/>
          <p:cNvCxnSpPr>
            <a:stCxn id="311" idx="4"/>
            <a:endCxn id="313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e National Center for Biomedical Ontolog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re 1: Computer Sci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rk Muse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E-science needs technologi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help build and extend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locate ontologies and to relate them to one anoth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visualize relationships and to aid understand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facilitate evaluation and annotation of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e need to relate ontologies to one another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keep reinventing the wheel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don’t even know what’s out there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need to make comparisons between ontologies automaticall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need to keep track of ontology history and to compare ver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e need to compute both similarities and differenc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erging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pping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c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Version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029200" y="3505320"/>
            <a:ext cx="3580920" cy="1396800"/>
            <a:chOff x="5029200" y="3505320"/>
            <a:chExt cx="3580920" cy="1396800"/>
          </a:xfrm>
        </p:grpSpPr>
        <p:sp>
          <p:nvSpPr>
            <p:cNvPr id="332" name=""/>
            <p:cNvSpPr/>
            <p:nvPr/>
          </p:nvSpPr>
          <p:spPr>
            <a:xfrm>
              <a:off x="5029200" y="3505320"/>
              <a:ext cx="1397520" cy="1396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12600" y="3505320"/>
              <a:ext cx="1397520" cy="1396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76520" y="4082760"/>
              <a:ext cx="129960" cy="15012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48360" y="4325760"/>
              <a:ext cx="129960" cy="14976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33120" y="4325760"/>
              <a:ext cx="129960" cy="14976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247360" y="4243680"/>
              <a:ext cx="72000" cy="8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82720" y="4243680"/>
              <a:ext cx="70920" cy="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96920" y="3636000"/>
              <a:ext cx="129960" cy="15012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68400" y="3880080"/>
              <a:ext cx="129960" cy="14976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53160" y="3880080"/>
              <a:ext cx="129960" cy="14976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11320" y="4147200"/>
              <a:ext cx="129960" cy="15012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88160" y="4147200"/>
              <a:ext cx="130680" cy="15012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24080" y="4463640"/>
              <a:ext cx="129960" cy="14976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59160" y="4454640"/>
              <a:ext cx="130680" cy="15084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567400" y="3798000"/>
              <a:ext cx="71640" cy="8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03480" y="3798000"/>
              <a:ext cx="70920" cy="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716440" y="4041720"/>
              <a:ext cx="8532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66920" y="4041720"/>
              <a:ext cx="4176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899320" y="4309200"/>
              <a:ext cx="64440" cy="14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95440" y="4300920"/>
              <a:ext cx="84240" cy="15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375160" y="4008960"/>
              <a:ext cx="11340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7605720" y="3636000"/>
              <a:ext cx="720720" cy="977400"/>
              <a:chOff x="7605720" y="3636000"/>
              <a:chExt cx="720720" cy="977400"/>
            </a:xfrm>
          </p:grpSpPr>
          <p:sp>
            <p:nvSpPr>
              <p:cNvPr id="354" name=""/>
              <p:cNvSpPr/>
              <p:nvPr/>
            </p:nvSpPr>
            <p:spPr>
              <a:xfrm>
                <a:off x="7733880" y="3636000"/>
                <a:ext cx="129960" cy="1497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605720" y="3878640"/>
                <a:ext cx="129960" cy="1508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890480" y="3878640"/>
                <a:ext cx="129960" cy="1508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747560" y="4146120"/>
                <a:ext cx="129960" cy="1497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025120" y="4146120"/>
                <a:ext cx="129960" cy="1497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961400" y="4462560"/>
                <a:ext cx="129960" cy="1508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196480" y="4454280"/>
                <a:ext cx="129960" cy="1497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7704360" y="3796560"/>
                <a:ext cx="70920" cy="8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840440" y="3796560"/>
                <a:ext cx="69840" cy="9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7853760" y="4040280"/>
                <a:ext cx="85320" cy="10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004240" y="4040280"/>
                <a:ext cx="41760" cy="10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8036640" y="4307760"/>
                <a:ext cx="64440" cy="141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132400" y="4300560"/>
                <a:ext cx="84600" cy="154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771520" y="3723480"/>
              <a:ext cx="2183400" cy="829440"/>
              <a:chOff x="5771520" y="3723480"/>
              <a:chExt cx="2183400" cy="829440"/>
            </a:xfrm>
          </p:grpSpPr>
          <p:sp>
            <p:nvSpPr>
              <p:cNvPr id="368" name=""/>
              <p:cNvSpPr/>
              <p:nvPr/>
            </p:nvSpPr>
            <p:spPr>
              <a:xfrm flipV="1">
                <a:off x="5902200" y="3723480"/>
                <a:ext cx="1834200" cy="21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164280" y="4465800"/>
                <a:ext cx="17906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5771520" y="4203720"/>
                <a:ext cx="1965240" cy="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Ontology engineering requires management of complexity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can we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ep track of hundreds of relationship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nderstand the implications of changes to a large ontology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 where ontologies are underspecified?  And where they are over constrain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Knowledge workers seem trapped in a pre-industrial age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st ontologies ar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f relatively small sca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uilt by small groups working arduously in isol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uccess rests heavily on the particular talents of individual artisans, rather than on SOPs and best pract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are few technologies available to make this process “faster, better, cheaper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0" y="228600"/>
          <a:ext cx="91440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E-science needs technologi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Gill Sans"/>
              </a:rPr>
              <a:t>To help build and extend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Gill Sans"/>
              </a:rPr>
              <a:t>To locate ontologies and to relate them to one anoth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Gill Sans"/>
              </a:rPr>
              <a:t>To visualize relationships and to aid understand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facilitate evaluation and annotation of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772400" cy="107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8" name=""/>
          <p:cNvGraphicFramePr/>
          <p:nvPr/>
        </p:nvGraphicFramePr>
        <p:xfrm>
          <a:off x="2666880" y="1523880"/>
          <a:ext cx="5334120" cy="5334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523880"/>
                    <a:ext cx="5334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992880" y="190512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1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re 1 Contributor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tanford: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Tools for ontology management, alignment, versioning, metadata management, automated critiquing, and peer revie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Mayo: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LexGrid technology for access to large controlled terminologies, ontology indexing, Soundex, sear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Victoria: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Technology for ontology visualiz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874880" y="10126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-299520" y="0"/>
            <a:ext cx="969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"/>
          <p:cNvCxnSpPr>
            <a:stCxn id="384" idx="4"/>
            <a:endCxn id="385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1" name=""/>
          <p:cNvCxnSpPr>
            <a:stCxn id="384" idx="1"/>
            <a:endCxn id="383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2" name=""/>
          <p:cNvCxnSpPr>
            <a:stCxn id="383" idx="4"/>
            <a:endCxn id="385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re 4: Infrastructur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ilds on existing IT infrastructure at Stanford and at our collaborating institu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dd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ine resources and technical support for the user community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llaboration tools to link all participating sit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685800" y="55627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re 5: Education and Training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ilds on existing, strong informatics training programs at Stanford, Berkeley, UCSF, Mayo/Minnesota, and Buffal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w postdoctoral positions at Stanford, Berkeley, and Buffal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w visiting scholars progra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85800" y="55627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re 6: Dissemin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e relationships with relevant professional societies and agencies (e.g., HL7, IEEE, WHO, NIH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net-based resources for discussing, critiquing, and annotating ontologies in OB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operation with other NCBCs to offer a library of open-source software too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ining workshops to aid biomedical scientists in ontology develop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685800" y="55627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Upcoming cB</a:t>
            </a:r>
            <a:r>
              <a:rPr b="0" i="1" lang="en-US" sz="4400" spc="-1" strike="noStrike">
                <a:solidFill>
                  <a:srgbClr val="6599cd"/>
                </a:solidFill>
                <a:latin typeface="Gill Sans"/>
              </a:rPr>
              <a:t>i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 Dissemination Workshop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Image Ontology Workshop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tanford CA, March 24–25, 2006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Training in Biomedical Ontology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chloss Dagstuhl, May 21–24, 2006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Training in Biomedical Ontology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ltimore, November 6–8, 2006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in association with FOIS and AMIA conferenc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re 7: Administr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management shared between Stanford and Berkele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ecutive committee (PI, co-PI, Center director, and Center associate director) provides day-to-day management and oversigh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cil (All site PIs, including PIs of DBPs) provides guidance and coordination of work pla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Core has a designated “lead” selected from the Counci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85800" y="55627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284120"/>
            <a:ext cx="9144000" cy="55738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 Portion of the OBO Librar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457200" y="2087640"/>
            <a:ext cx="8153280" cy="3808440"/>
            <a:chOff x="457200" y="2087640"/>
            <a:chExt cx="8153280" cy="3808440"/>
          </a:xfrm>
        </p:grpSpPr>
        <p:cxnSp>
          <p:nvCxnSpPr>
            <p:cNvPr id="409" name="_s3207"/>
            <p:cNvCxnSpPr>
              <a:stCxn id="410" idx="0"/>
              <a:endCxn id="411" idx="3"/>
            </p:cNvCxnSpPr>
            <p:nvPr/>
          </p:nvCxnSpPr>
          <p:spPr>
            <a:xfrm flipH="1" flipV="1" rot="5400000">
              <a:off x="2400840" y="2724840"/>
              <a:ext cx="2512080" cy="276120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12" name="_s3205"/>
            <p:cNvCxnSpPr>
              <a:stCxn id="413" idx="0"/>
              <a:endCxn id="411" idx="3"/>
            </p:cNvCxnSpPr>
            <p:nvPr/>
          </p:nvCxnSpPr>
          <p:spPr>
            <a:xfrm flipH="1" flipV="1" rot="5400000">
              <a:off x="3086640" y="3410640"/>
              <a:ext cx="2512080" cy="138960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14" name="_s3203"/>
            <p:cNvCxnSpPr>
              <a:stCxn id="415" idx="0"/>
              <a:endCxn id="411" idx="3"/>
            </p:cNvCxnSpPr>
            <p:nvPr/>
          </p:nvCxnSpPr>
          <p:spPr>
            <a:xfrm flipV="1" rot="16200000">
              <a:off x="3810240" y="4075560"/>
              <a:ext cx="2512080" cy="5940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16" name="_s3201"/>
            <p:cNvCxnSpPr>
              <a:stCxn id="417" idx="0"/>
              <a:endCxn id="411" idx="3"/>
            </p:cNvCxnSpPr>
            <p:nvPr/>
          </p:nvCxnSpPr>
          <p:spPr>
            <a:xfrm flipV="1" rot="16200000">
              <a:off x="4572360" y="3313440"/>
              <a:ext cx="2512080" cy="158364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18" name="_s3199"/>
            <p:cNvCxnSpPr>
              <a:stCxn id="419" idx="0"/>
              <a:endCxn id="411" idx="3"/>
            </p:cNvCxnSpPr>
            <p:nvPr/>
          </p:nvCxnSpPr>
          <p:spPr>
            <a:xfrm flipV="1" rot="16200000">
              <a:off x="5296320" y="2589480"/>
              <a:ext cx="2512080" cy="303120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20" name="_s3197"/>
            <p:cNvCxnSpPr>
              <a:stCxn id="421" idx="0"/>
              <a:endCxn id="411" idx="3"/>
            </p:cNvCxnSpPr>
            <p:nvPr/>
          </p:nvCxnSpPr>
          <p:spPr>
            <a:xfrm flipH="1" flipV="1" rot="5400000">
              <a:off x="1752120" y="2076120"/>
              <a:ext cx="2512080" cy="405828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22" name="_s3195"/>
            <p:cNvCxnSpPr>
              <a:stCxn id="423" idx="2"/>
              <a:endCxn id="411" idx="3"/>
            </p:cNvCxnSpPr>
            <p:nvPr/>
          </p:nvCxnSpPr>
          <p:spPr>
            <a:xfrm rot="10800000">
              <a:off x="5036400" y="2849040"/>
              <a:ext cx="907200" cy="17946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24" name="_s3193"/>
            <p:cNvCxnSpPr>
              <a:stCxn id="425" idx="2"/>
              <a:endCxn id="411" idx="3"/>
            </p:cNvCxnSpPr>
            <p:nvPr/>
          </p:nvCxnSpPr>
          <p:spPr>
            <a:xfrm rot="10800000">
              <a:off x="5036400" y="2849040"/>
              <a:ext cx="1212120" cy="7945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26" name="_s3191"/>
            <p:cNvCxnSpPr>
              <a:stCxn id="427" idx="1"/>
              <a:endCxn id="428" idx="3"/>
            </p:cNvCxnSpPr>
            <p:nvPr/>
          </p:nvCxnSpPr>
          <p:spPr>
            <a:xfrm flipV="1">
              <a:off x="2797200" y="4329000"/>
              <a:ext cx="2160" cy="2419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29" name="_s3189"/>
            <p:cNvCxnSpPr>
              <a:stCxn id="428" idx="0"/>
              <a:endCxn id="430" idx="3"/>
            </p:cNvCxnSpPr>
            <p:nvPr/>
          </p:nvCxnSpPr>
          <p:spPr>
            <a:xfrm flipV="1" rot="16200000">
              <a:off x="2322720" y="3399120"/>
              <a:ext cx="311760" cy="726120"/>
            </a:xfrm>
            <a:prstGeom prst="bentConnector3">
              <a:avLst>
                <a:gd name="adj1" fmla="val 366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31" name="_s3185"/>
            <p:cNvCxnSpPr>
              <a:stCxn id="432" idx="0"/>
              <a:endCxn id="430" idx="3"/>
            </p:cNvCxnSpPr>
            <p:nvPr/>
          </p:nvCxnSpPr>
          <p:spPr>
            <a:xfrm flipH="1" flipV="1" rot="5400000">
              <a:off x="1599120" y="3400920"/>
              <a:ext cx="311760" cy="722520"/>
            </a:xfrm>
            <a:prstGeom prst="bentConnector3">
              <a:avLst>
                <a:gd name="adj1" fmla="val 366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33" name="_s3183"/>
            <p:cNvCxnSpPr>
              <a:stCxn id="430" idx="5"/>
              <a:endCxn id="411" idx="3"/>
            </p:cNvCxnSpPr>
            <p:nvPr/>
          </p:nvCxnSpPr>
          <p:spPr>
            <a:xfrm flipV="1">
              <a:off x="2689200" y="2849400"/>
              <a:ext cx="2348640" cy="4658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34" name="_s3177"/>
            <p:cNvCxnSpPr>
              <a:stCxn id="435" idx="3"/>
              <a:endCxn id="411" idx="3"/>
            </p:cNvCxnSpPr>
            <p:nvPr/>
          </p:nvCxnSpPr>
          <p:spPr>
            <a:xfrm rot="5400000">
              <a:off x="5753160" y="2085120"/>
              <a:ext cx="48600" cy="1481760"/>
            </a:xfrm>
            <a:prstGeom prst="bentConnector3">
              <a:avLst>
                <a:gd name="adj1" fmla="val 23955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36" name="_s3175"/>
            <p:cNvCxnSpPr>
              <a:stCxn id="437" idx="3"/>
              <a:endCxn id="411" idx="3"/>
            </p:cNvCxnSpPr>
            <p:nvPr/>
          </p:nvCxnSpPr>
          <p:spPr>
            <a:xfrm rot="5400000">
              <a:off x="6479640" y="1363680"/>
              <a:ext cx="43560" cy="2929680"/>
            </a:xfrm>
            <a:prstGeom prst="bentConnector3">
              <a:avLst>
                <a:gd name="adj1" fmla="val 26666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38" name="_s3173"/>
            <p:cNvCxnSpPr>
              <a:stCxn id="439" idx="3"/>
              <a:endCxn id="411" idx="3"/>
            </p:cNvCxnSpPr>
            <p:nvPr/>
          </p:nvCxnSpPr>
          <p:spPr>
            <a:xfrm flipH="1" rot="16200000">
              <a:off x="4307400" y="2120760"/>
              <a:ext cx="43560" cy="1415160"/>
            </a:xfrm>
            <a:prstGeom prst="bentConnector3">
              <a:avLst>
                <a:gd name="adj1" fmla="val 26666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40" name="_s3159"/>
            <p:cNvCxnSpPr>
              <a:stCxn id="441" idx="3"/>
              <a:endCxn id="411" idx="3"/>
            </p:cNvCxnSpPr>
            <p:nvPr/>
          </p:nvCxnSpPr>
          <p:spPr>
            <a:xfrm flipH="1" rot="16200000">
              <a:off x="3657240" y="1470600"/>
              <a:ext cx="48600" cy="2710440"/>
            </a:xfrm>
            <a:prstGeom prst="bentConnector3">
              <a:avLst>
                <a:gd name="adj1" fmla="val 23955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42" name="_s3152"/>
            <p:cNvCxnSpPr>
              <a:stCxn id="443" idx="3"/>
              <a:endCxn id="411" idx="3"/>
            </p:cNvCxnSpPr>
            <p:nvPr/>
          </p:nvCxnSpPr>
          <p:spPr>
            <a:xfrm flipH="1" rot="16200000">
              <a:off x="3012120" y="824400"/>
              <a:ext cx="43560" cy="4007520"/>
            </a:xfrm>
            <a:prstGeom prst="bentConnector3">
              <a:avLst>
                <a:gd name="adj1" fmla="val 266666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411" name="_s3083"/>
            <p:cNvSpPr/>
            <p:nvPr/>
          </p:nvSpPr>
          <p:spPr>
            <a:xfrm>
              <a:off x="4419720" y="2087640"/>
              <a:ext cx="1317600" cy="762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440" rIns="28440" tIns="14040" bIns="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PI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 Mark Mus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-PI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 Suzanna Lew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3151"/>
            <p:cNvSpPr/>
            <p:nvPr/>
          </p:nvSpPr>
          <p:spPr>
            <a:xfrm>
              <a:off x="457200" y="2163960"/>
              <a:ext cx="1216080" cy="642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Other NCBC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ent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3158"/>
            <p:cNvSpPr/>
            <p:nvPr/>
          </p:nvSpPr>
          <p:spPr>
            <a:xfrm>
              <a:off x="1752480" y="2163960"/>
              <a:ext cx="1219320" cy="637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NIH Program Office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and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Science Offic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3172"/>
            <p:cNvSpPr/>
            <p:nvPr/>
          </p:nvSpPr>
          <p:spPr>
            <a:xfrm>
              <a:off x="3048120" y="2163960"/>
              <a:ext cx="1218960" cy="642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Biomedical Scie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mmun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_s3174"/>
            <p:cNvSpPr/>
            <p:nvPr/>
          </p:nvSpPr>
          <p:spPr>
            <a:xfrm>
              <a:off x="7391520" y="2163960"/>
              <a:ext cx="1218960" cy="642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Scientific Adviso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mmitte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3176"/>
            <p:cNvSpPr/>
            <p:nvPr/>
          </p:nvSpPr>
          <p:spPr>
            <a:xfrm>
              <a:off x="5943600" y="2163960"/>
              <a:ext cx="1219320" cy="637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Biomedic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mpu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mmun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3182"/>
            <p:cNvSpPr/>
            <p:nvPr/>
          </p:nvSpPr>
          <p:spPr>
            <a:xfrm>
              <a:off x="1600200" y="3078360"/>
              <a:ext cx="1089000" cy="528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enter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aniel Rub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_s3184"/>
            <p:cNvSpPr/>
            <p:nvPr/>
          </p:nvSpPr>
          <p:spPr>
            <a:xfrm>
              <a:off x="838080" y="3917880"/>
              <a:ext cx="1067040" cy="411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Associate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Sima Mis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3188"/>
            <p:cNvSpPr/>
            <p:nvPr/>
          </p:nvSpPr>
          <p:spPr>
            <a:xfrm>
              <a:off x="2286000" y="3917880"/>
              <a:ext cx="1066680" cy="411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Business Manag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Rosalind Ravas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_s3190"/>
            <p:cNvSpPr/>
            <p:nvPr/>
          </p:nvSpPr>
          <p:spPr>
            <a:xfrm>
              <a:off x="2286000" y="4525920"/>
              <a:ext cx="1066680" cy="411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Administrative Ass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onna Maho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_s3192"/>
            <p:cNvSpPr/>
            <p:nvPr/>
          </p:nvSpPr>
          <p:spPr>
            <a:xfrm>
              <a:off x="6248520" y="3306960"/>
              <a:ext cx="1622160" cy="60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9933">
                    <a:alpha val="40000"/>
                  </a:srgbClr>
                </a:gs>
                <a:gs pos="100000">
                  <a:srgbClr val="ffe9d2"/>
                </a:gs>
              </a:gsLst>
              <a:lin ang="540000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Executive Committe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Musen, Lewis, Rubin, Mis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_s3194"/>
            <p:cNvSpPr/>
            <p:nvPr/>
          </p:nvSpPr>
          <p:spPr>
            <a:xfrm>
              <a:off x="5943600" y="4221360"/>
              <a:ext cx="2362320" cy="763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9933">
                    <a:alpha val="40000"/>
                  </a:srgbClr>
                </a:gs>
                <a:gs pos="100000">
                  <a:srgbClr val="ffe9d2"/>
                </a:gs>
              </a:gsLst>
              <a:lin ang="540000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BIO Counci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Musen, Lewis, Rubin, Misra, Smith, Storey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Chute, Ashburner, Westerfield, Si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_s3196"/>
            <p:cNvSpPr/>
            <p:nvPr/>
          </p:nvSpPr>
          <p:spPr>
            <a:xfrm>
              <a:off x="457200" y="5361120"/>
              <a:ext cx="98748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1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Mark Mus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3198"/>
            <p:cNvSpPr/>
            <p:nvPr/>
          </p:nvSpPr>
          <p:spPr>
            <a:xfrm>
              <a:off x="7543800" y="5361120"/>
              <a:ext cx="99072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6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Barry Smi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3200"/>
            <p:cNvSpPr/>
            <p:nvPr/>
          </p:nvSpPr>
          <p:spPr>
            <a:xfrm>
              <a:off x="6095880" y="5361120"/>
              <a:ext cx="99072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5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Mark Mus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3202"/>
            <p:cNvSpPr/>
            <p:nvPr/>
          </p:nvSpPr>
          <p:spPr>
            <a:xfrm>
              <a:off x="4572000" y="5361120"/>
              <a:ext cx="99072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4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aniel Rub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3204"/>
            <p:cNvSpPr/>
            <p:nvPr/>
          </p:nvSpPr>
          <p:spPr>
            <a:xfrm>
              <a:off x="3124080" y="5361120"/>
              <a:ext cx="99072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3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Exec Committ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3206"/>
            <p:cNvSpPr/>
            <p:nvPr/>
          </p:nvSpPr>
          <p:spPr>
            <a:xfrm>
              <a:off x="1752480" y="5361120"/>
              <a:ext cx="99072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2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Suzanna Lew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B</a:t>
            </a:r>
            <a:r>
              <a:rPr b="0" i="1" lang="en-US" sz="4400" spc="-1" strike="noStrike">
                <a:solidFill>
                  <a:srgbClr val="6599cd"/>
                </a:solidFill>
                <a:latin typeface="Gill Sans"/>
              </a:rPr>
              <a:t>i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 Organization Chart 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 flipV="1">
            <a:off x="5105520" y="1676160"/>
            <a:ext cx="152388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952880" y="2514600"/>
            <a:ext cx="53352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3809880" y="1371240"/>
            <a:ext cx="60984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3428640" y="2209320"/>
            <a:ext cx="685800" cy="8384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2133720" y="685440"/>
            <a:ext cx="1828800" cy="25146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2057400" y="1752120"/>
            <a:ext cx="1905120" cy="1676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505320" y="3733920"/>
            <a:ext cx="3808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81080" y="2819520"/>
            <a:ext cx="190512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1981080" y="3733920"/>
            <a:ext cx="1905120" cy="3045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3048120" y="4191120"/>
            <a:ext cx="914400" cy="4572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1066680" y="4952880"/>
            <a:ext cx="609840" cy="3812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438280" y="5334120"/>
            <a:ext cx="76320" cy="5331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419360" y="4267080"/>
            <a:ext cx="7596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876920" y="4267080"/>
            <a:ext cx="838080" cy="10670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05520" y="4191120"/>
            <a:ext cx="2286000" cy="6858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81480" y="3809880"/>
            <a:ext cx="914400" cy="1526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105520" y="3200040"/>
            <a:ext cx="1828800" cy="1522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257800" y="2362320"/>
            <a:ext cx="220968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1235160" cy="6174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7162920" y="3809880"/>
            <a:ext cx="1981080" cy="11559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2743200" y="868320"/>
            <a:ext cx="1943280" cy="5032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1752480" y="4495680"/>
            <a:ext cx="1292400" cy="85752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5"/>
          <a:stretch/>
        </p:blipFill>
        <p:spPr>
          <a:xfrm>
            <a:off x="6858000" y="2941560"/>
            <a:ext cx="1646280" cy="6397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6"/>
          <a:stretch/>
        </p:blipFill>
        <p:spPr>
          <a:xfrm>
            <a:off x="5181480" y="6172200"/>
            <a:ext cx="1714680" cy="4222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7"/>
          <a:stretch/>
        </p:blipFill>
        <p:spPr>
          <a:xfrm>
            <a:off x="533520" y="2057400"/>
            <a:ext cx="1382760" cy="8002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8"/>
          <a:stretch/>
        </p:blipFill>
        <p:spPr>
          <a:xfrm>
            <a:off x="5867280" y="1219320"/>
            <a:ext cx="1782720" cy="4222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9"/>
          <a:stretch/>
        </p:blipFill>
        <p:spPr>
          <a:xfrm>
            <a:off x="457200" y="327672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10"/>
          <a:stretch/>
        </p:blipFill>
        <p:spPr>
          <a:xfrm>
            <a:off x="5410080" y="5410080"/>
            <a:ext cx="3429000" cy="5032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11"/>
          <a:stretch/>
        </p:blipFill>
        <p:spPr>
          <a:xfrm>
            <a:off x="2514600" y="1639800"/>
            <a:ext cx="1143000" cy="7225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12"/>
          <a:stretch/>
        </p:blipFill>
        <p:spPr>
          <a:xfrm>
            <a:off x="3581280" y="4800600"/>
            <a:ext cx="1447920" cy="60336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13"/>
          <a:stretch/>
        </p:blipFill>
        <p:spPr>
          <a:xfrm>
            <a:off x="7086600" y="1676520"/>
            <a:ext cx="1771560" cy="9936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14"/>
          <a:stretch/>
        </p:blipFill>
        <p:spPr>
          <a:xfrm>
            <a:off x="5867280" y="3581280"/>
            <a:ext cx="879480" cy="10288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15"/>
          <a:stretch/>
        </p:blipFill>
        <p:spPr>
          <a:xfrm>
            <a:off x="4495680" y="1828800"/>
            <a:ext cx="2286000" cy="6634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16"/>
          <a:stretch/>
        </p:blipFill>
        <p:spPr>
          <a:xfrm>
            <a:off x="152280" y="133200"/>
            <a:ext cx="3051360" cy="62892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17"/>
          <a:stretch/>
        </p:blipFill>
        <p:spPr>
          <a:xfrm>
            <a:off x="2514600" y="28195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18"/>
          <a:stretch/>
        </p:blipFill>
        <p:spPr>
          <a:xfrm>
            <a:off x="76320" y="5370480"/>
            <a:ext cx="1981080" cy="4968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19"/>
          <a:stretch/>
        </p:blipFill>
        <p:spPr>
          <a:xfrm>
            <a:off x="1447920" y="5892840"/>
            <a:ext cx="1218960" cy="8128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3277440" y="-49320"/>
            <a:ext cx="551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tologies are essential to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make sense of biomed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0"/>
          <a:stretch/>
        </p:blipFill>
        <p:spPr>
          <a:xfrm>
            <a:off x="3657600" y="3083040"/>
            <a:ext cx="19810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74880" y="10126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299520" y="0"/>
            <a:ext cx="969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5" idx="4"/>
            <a:endCxn id="116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5" idx="1"/>
            <a:endCxn id="114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4" idx="4"/>
            <a:endCxn id="116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Stanford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Tools for ontology alignment, indexing, and management (Cores 1, 4–7: Mark Muse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0720" indent="-27072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Lawrence–Berkeley Labs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ools to use ontologies for data annotation (Cores 2, 5–7: Suzanna Lewi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0720" indent="-27072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Mayo Clinic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Tools for access to large controlled terminologies (Core 1: Chris Chut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0720" indent="-27072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Victoria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ools for ontology and data visualization (Cores 1 and 2: Margaret-Anne Stor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0720" indent="-27072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University at Buffalo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issemination of best practices for ontology engineering (Core 6: Barry Smith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6415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cB</a:t>
            </a:r>
            <a:r>
              <a:rPr b="0" i="1" lang="en-US" sz="4000" spc="-1" strike="noStrike">
                <a:solidFill>
                  <a:srgbClr val="6599cd"/>
                </a:solidFill>
                <a:latin typeface="Gill Sans"/>
              </a:rPr>
              <a:t>i</a:t>
            </a: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o Driving Biological Projects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Trial Ban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 UCSF, Ida Si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Flybas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 Cambridge, Michael Ashbur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ZFIN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 Oregon, Monte Westerfiel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010280" y="4038480"/>
            <a:ext cx="692280" cy="863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696080" y="2819520"/>
            <a:ext cx="828720" cy="1066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410080" y="1905120"/>
            <a:ext cx="114300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22:49:13Z</dcterms:created>
  <dc:creator>Suzanna Lewis</dc:creator>
  <dc:description/>
  <dc:language>en-US</dc:language>
  <cp:lastModifiedBy>Mark Musen</cp:lastModifiedBy>
  <cp:lastPrinted>2005-12-14T17:30:42Z</cp:lastPrinted>
  <dcterms:modified xsi:type="dcterms:W3CDTF">2006-01-11T04:50:30Z</dcterms:modified>
  <cp:revision>171</cp:revision>
  <dc:subject/>
  <dc:title>All ontology content developers need</dc:title>
</cp:coreProperties>
</file>